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70706-C119-4A5D-85E7-D7B0ED0CE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was after the Feast of Dedication in Dec.  Feast of Dedication was established to celebrate the rededication of the temple and the relighting of sacred lamps by Judas Maccabeus in 164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Antipas was the one that had John behead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asked if it was lawful to heal on the sabbath prior to healing the man of dropsy (a disease of fluid re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sked if their cow or donkey fell into a pit, would they get them ou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e father and mother – love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 intending to build a tow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ED8FC-B064-49BA-A4CE-E4885CDD4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4C360-3E0D-4463-96C0-7B9473720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37019-297B-4B93-9D04-E04E25EE5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CF331-D773-4BB1-BB39-CABE0FF9C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0A15BC-9583-48AA-A9AB-EBBB09E65C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AFB19-2BE2-4E39-8270-4E7285C1C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DB4EE-C360-4B9D-8A33-EB92CBB6B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A6C65-06F2-4609-943E-207565B0D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0281B-51D0-4399-B8F7-A8F8096F1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12F7C-B3DF-4375-A9F8-713611641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F5FCA-E915-446E-AD96-EE8301639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086B0-A1E8-48BF-9B4F-AA3D320FB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FC636-B7FB-484F-9287-7ABF4D0D7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5998A-FE07-4A66-A0D9-1165A5B93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89E22-326F-4630-9BAC-72C380819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1559DB-7B8C-4E8F-B9DB-6EFF5E09B4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935F92-4FD8-42A3-A7EB-A587496566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169E6-4FC8-40DA-9F5D-8D18258DE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0FBD3-5D1F-45EC-8DC0-62C8323CE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9450E-47F4-43AD-9F50-3B51808C0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2B456-8886-45C7-B33D-222605E57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5B54E-AD88-4B2C-8707-934D4018D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5C477-5D01-407F-B586-4F6613EE6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1B3AC-E000-4D9C-9CA9-90CFAF3BF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D335E-1B86-4D11-A0E6-5C92C96973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FFB6D-2E64-4FDD-8A28-C9EB5C8631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o Tell The Good News</a:t>
            </a:r>
            <a:endParaRPr b="0" lang="en-US" sz="4400" spc="-1" strike="noStrike">
              <a:solidFill>
                <a:srgbClr val="b7e7ff"/>
              </a:solidFill>
              <a:latin typeface="Arial"/>
            </a:endParaRPr>
          </a:p>
        </p:txBody>
      </p:sp>
      <p:sp>
        <p:nvSpPr>
          <p:cNvPr id="90"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rter 12, Lesson 18</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emon, Philippian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228 - 23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Letters sent from Paul in Rome</a:t>
            </a:r>
            <a:endParaRPr b="0" lang="en-US" sz="4400" spc="-1" strike="noStrike">
              <a:solidFill>
                <a:srgbClr val="b7e7ff"/>
              </a:solidFill>
              <a:latin typeface="Arial"/>
            </a:endParaRPr>
          </a:p>
        </p:txBody>
      </p:sp>
      <p:sp>
        <p:nvSpPr>
          <p:cNvPr id="9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tters of Ephesians, Colossians, and Philemon were carried by Tychicus and Onesimu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hesus and Colossae were located in the same general area in Asi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seems that Philemon was a member of the church at Colossa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hilemon</a:t>
            </a:r>
            <a:endParaRPr b="0" lang="en-US" sz="4400" spc="-1" strike="noStrike">
              <a:solidFill>
                <a:srgbClr val="b7e7ff"/>
              </a:solidFill>
              <a:latin typeface="Arial"/>
            </a:endParaRPr>
          </a:p>
        </p:txBody>
      </p:sp>
      <p:sp>
        <p:nvSpPr>
          <p:cNvPr id="9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sent the letter to Philemon and to others in the church in his hous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expressed joy because saints had been refreshed through Philemon’s action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Onesimus was Philemon’s slave, Paul appealed to Philemon to receive him as a brothe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offered to pay Philemon for any loss Onesimus had caused by running away, and pointed out that Philemon was indebted to him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aphras and others with Paul sent their greet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Another letter sent from Paul in Rome</a:t>
            </a:r>
            <a:endParaRPr b="0" lang="en-US" sz="4000" spc="-1" strike="noStrike">
              <a:solidFill>
                <a:srgbClr val="b7e7ff"/>
              </a:solidFill>
              <a:latin typeface="Arial"/>
            </a:endParaRPr>
          </a:p>
        </p:txBody>
      </p:sp>
      <p:sp>
        <p:nvSpPr>
          <p:cNvPr id="9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ly in A.D. 63 Epaphroditus brought a gift to Paul from the church at Philipp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sent the Philippian letter back expressing his appreci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ippi was located in Macedonia, so this letter could not have been sent easily with the other prison lett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5331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Philippians 1</a:t>
            </a:r>
            <a:endParaRPr b="0" lang="en-US" sz="4000" spc="-1" strike="noStrike">
              <a:solidFill>
                <a:srgbClr val="b7e7ff"/>
              </a:solidFill>
              <a:latin typeface="Arial"/>
            </a:endParaRPr>
          </a:p>
        </p:txBody>
      </p:sp>
      <p:sp>
        <p:nvSpPr>
          <p:cNvPr id="98" name="PlaceHolder 2"/>
          <p:cNvSpPr>
            <a:spLocks noGrp="1"/>
          </p:cNvSpPr>
          <p:nvPr>
            <p:ph/>
          </p:nvPr>
        </p:nvSpPr>
        <p:spPr>
          <a:xfrm>
            <a:off x="457200" y="1523880"/>
            <a:ext cx="8229600" cy="46483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and Timothy greet the saints in Philippi</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expresses thankfulness for association with them in the gospel and he prays that they will increase in knowledge and understanding</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imprisonment has furthered preaching of the gospel.  Many have heard the gospel and brethren have become more bold to preach</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s hope is that Christ will be magnified in him, whether by life or by death.  He desired to be with Christ, but also was concerned about them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admonished them to be of one mind and to be strong when persecu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460080"/>
            <a:ext cx="851040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Philippians 2</a:t>
            </a:r>
            <a:endParaRPr b="0" lang="en-US" sz="4000" spc="-1" strike="noStrike">
              <a:solidFill>
                <a:srgbClr val="b7e7ff"/>
              </a:solidFill>
              <a:latin typeface="Arial"/>
            </a:endParaRPr>
          </a:p>
        </p:txBody>
      </p:sp>
      <p:sp>
        <p:nvSpPr>
          <p:cNvPr id="100"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 the interest of others above your ow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ve to be like Christ.  He humbled himself in coming to earth and was obedient to the point of death</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uct your lives to be good examples in this perverse world.  Hold fast to the gospel so your life will not be in vai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sent Timothy to encourage them and to  comfort himself in knowing their conditio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also sent Epaphroditus back to them.  He was praised for being a faithful serva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228240"/>
            <a:ext cx="85104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Philippians 3</a:t>
            </a:r>
            <a:endParaRPr b="0" lang="en-US" sz="4000" spc="-1" strike="noStrike">
              <a:solidFill>
                <a:srgbClr val="b7e7ff"/>
              </a:solidFill>
              <a:latin typeface="Arial"/>
            </a:endParaRPr>
          </a:p>
        </p:txBody>
      </p:sp>
      <p:sp>
        <p:nvSpPr>
          <p:cNvPr id="102" name="PlaceHolder 2"/>
          <p:cNvSpPr>
            <a:spLocks noGrp="1"/>
          </p:cNvSpPr>
          <p:nvPr>
            <p:ph/>
          </p:nvPr>
        </p:nvSpPr>
        <p:spPr>
          <a:xfrm>
            <a:off x="457200" y="1371600"/>
            <a:ext cx="822960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ales in comparison to Christ.  He counted his sufferings as insignifican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did not feel that he could be complacent in reaching the goal.  He continued to press toward the prize and stressed singleness in purpos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those that are enemies of Christ who are interested in worldly things.  Our citizenship is in heav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240"/>
            <a:ext cx="8510400" cy="103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hilippians 4</a:t>
            </a:r>
            <a:endParaRPr b="0" lang="en-US" sz="4400" spc="-1" strike="noStrike">
              <a:solidFill>
                <a:srgbClr val="b7e7ff"/>
              </a:solidFill>
              <a:latin typeface="Arial"/>
            </a:endParaRPr>
          </a:p>
        </p:txBody>
      </p:sp>
      <p:sp>
        <p:nvSpPr>
          <p:cNvPr id="10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united, and help others to be united al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be anxious, ask God and he will supply your need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tate on righteous principles and God will be with you</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he departed from Macedonia, they were the ones to supply his needs.  His interest was in their benefit from giving, more than he was in their filling his physical need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sent greetings from the saints, especially those of Caesar’s househo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3T21:39:45Z</dcterms:created>
  <dc:creator>Ray Cooley</dc:creator>
  <dc:description/>
  <dc:language>en-US</dc:language>
  <cp:lastModifiedBy>Ray Cooley</cp:lastModifiedBy>
  <dcterms:modified xsi:type="dcterms:W3CDTF">2007-03-08T02:21:11Z</dcterms:modified>
  <cp:revision>50</cp:revision>
  <dc:subject/>
  <dc:title>Life of Christ, Part 2 In Perea</dc:title>
</cp:coreProperties>
</file>